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112532"/>
        <c:axId val="70656077"/>
      </c:barChart>
      <c:catAx>
        <c:axId val="311125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656077"/>
        <c:crosses val="autoZero"/>
        <c:auto val="1"/>
        <c:lblAlgn val="ctr"/>
        <c:lblOffset val="100"/>
        <c:noMultiLvlLbl val="0"/>
      </c:catAx>
      <c:valAx>
        <c:axId val="706560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1125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B7F5-EAAD-4380-BD4E-547C5CBCE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F370-32C5-4AE1-BF1B-89EA96255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0BAD-41F5-425A-A475-4AB4FEF01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53D8-8281-4FD4-8041-3DC8EF33E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907A-8BD4-430F-B990-786E78897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8FBE-4990-42CA-A353-7DF46261D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D573-905E-4713-A26C-5AE280695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8235-B828-439F-BB28-5FB7F83A9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EE23-0EB1-4EAF-AC8C-8DF236277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736F-0551-4976-87E4-4523E578A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0B9B-D634-4419-8B12-5B78652F1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C0A7-E066-412B-8B09-30C57DEE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A78E82-E533-4FFD-ABB7-1139C024425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