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77062"/>
        <c:axId val="57865350"/>
      </c:barChart>
      <c:catAx>
        <c:axId val="95477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65350"/>
        <c:crosses val="autoZero"/>
        <c:auto val="1"/>
        <c:lblAlgn val="ctr"/>
        <c:lblOffset val="100"/>
        <c:noMultiLvlLbl val="0"/>
      </c:catAx>
      <c:valAx>
        <c:axId val="57865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77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FCD-349C-4256-9FFF-9D919CF2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285-F1EA-4E21-8A42-D0FAB0F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81C-4D68-430F-82A9-C5CCF44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21F-E247-44A4-8CE5-FE3FDE0F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97F-32DB-405D-BC0F-DD502E2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1FF-2141-444C-BB08-F47DBFF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69A-E661-4D73-B399-F0DFB60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FB1-FFC7-445A-920E-2D754C2F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CB3-6FD4-486D-8A45-A336472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D92-AAE9-418E-9290-734B9C0B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BAC-2A41-4BEB-A892-BA80140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B00-07D1-41E4-9BF0-34143AA6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44397-8B64-4B76-A2BA-DFE8E3E996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