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678945"/>
        <c:axId val="43148841"/>
      </c:barChart>
      <c:catAx>
        <c:axId val="866789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148841"/>
        <c:crosses val="autoZero"/>
        <c:auto val="1"/>
        <c:lblAlgn val="ctr"/>
        <c:lblOffset val="100"/>
        <c:noMultiLvlLbl val="0"/>
      </c:catAx>
      <c:valAx>
        <c:axId val="431488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6789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5496-EC3F-40E7-B6E6-EC4D35A5B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2F5B-4007-422E-81CC-39E2CEFB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0606-A6EE-4325-AC18-19A1EFBD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519A-7B10-4799-AF9B-27FCA7D39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1787-817C-43C6-AE25-FFDE1627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4DB9-C166-44F0-9BA9-B1206488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B22E-2DBF-4DE9-8691-0B4F1A65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715B-CD64-4C32-BE75-31690237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487F-E17A-40AD-91E4-8C453509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FB9C-481C-4314-B82F-9DA20C82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4C4C-4172-4A4F-AEF6-FC79D728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E96F-A3EA-4074-B661-A3F1B373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976000-862E-4D3F-A855-2474ED0009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