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66659"/>
        <c:axId val="23857655"/>
      </c:barChart>
      <c:catAx>
        <c:axId val="11866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7655"/>
        <c:crosses val="autoZero"/>
        <c:auto val="1"/>
        <c:lblAlgn val="ctr"/>
        <c:lblOffset val="100"/>
        <c:noMultiLvlLbl val="0"/>
      </c:catAx>
      <c:valAx>
        <c:axId val="23857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6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681-386A-4739-8BBE-717727D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0CE-6691-4868-AAB8-CA07D2B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1F2-86CB-4AC9-9675-BEF14255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602-7AD8-41EB-941E-B477D9D9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00E-5D9D-43E8-BC16-748DA8D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69A-B345-4903-8798-BC96DADD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956-CDB5-44BF-8616-C00AA20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139-1460-4B95-90B9-4EE45C4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D48-8D68-4E42-BBB5-677F389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C3F-C904-4F53-9D10-5A4A126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B6F-ED3A-43AA-8587-2DE40F2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79D-465B-4236-913E-E60F9466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EC6F-F076-48E4-A067-3352221254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