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5795"/>
        <c:axId val="79298623"/>
      </c:barChart>
      <c:catAx>
        <c:axId val="1875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8623"/>
        <c:crosses val="autoZero"/>
        <c:auto val="1"/>
        <c:lblAlgn val="ctr"/>
        <c:lblOffset val="100"/>
        <c:noMultiLvlLbl val="0"/>
      </c:catAx>
      <c:valAx>
        <c:axId val="79298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5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02F-7908-4FC7-B9AB-20701334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30B-5918-484C-8442-CC87F2E7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D66-5FD4-41D0-B9A9-F37FACA0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32B-2C81-4CE5-833B-7372943D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C4D-9338-4BC1-B80F-20EFD16C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7FD-5129-46AB-A287-E7F1E2F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8F0-C733-4CAF-BC24-D03D1DF8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67E-A0FE-4A2D-A453-88822860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BF9-1E4F-4ABA-A383-8EAE88AA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C24-5360-43AA-A57F-25CF7A0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F47-5DE7-41CA-A677-2B3F91A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E3C-85F9-4923-B964-D23A2A2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CBA10-E333-4B91-992E-46A0D9436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