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58255"/>
        <c:axId val="22331069"/>
      </c:barChart>
      <c:catAx>
        <c:axId val="85858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31069"/>
        <c:crosses val="autoZero"/>
        <c:auto val="1"/>
        <c:lblAlgn val="ctr"/>
        <c:lblOffset val="100"/>
        <c:noMultiLvlLbl val="0"/>
      </c:catAx>
      <c:valAx>
        <c:axId val="22331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58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0DF-A3B4-4215-BCF1-E09081F2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76F-2218-410D-86A7-F1E82B2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018-6BEA-467C-A5E2-F2F3B516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10E-8E21-4444-93BB-7DE67781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E49-3BF2-4C21-9C45-2658F416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F2F-A06E-41F0-A1E5-A6A3DFA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C34-56C0-4343-983C-BC57577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297-554F-4A61-8A53-326B5C5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AD2-E91B-4D4D-B7E8-2108CB9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175-8FB9-41BF-9B95-D558804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B9B-96E4-4771-96FF-206A53B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752-8FDD-462E-B4B5-834D071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76B3-0C9B-479C-8828-97E53A030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