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0427"/>
        <c:axId val="45835840"/>
      </c:barChart>
      <c:catAx>
        <c:axId val="8040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35840"/>
        <c:crosses val="autoZero"/>
        <c:auto val="1"/>
        <c:lblAlgn val="ctr"/>
        <c:lblOffset val="100"/>
        <c:noMultiLvlLbl val="0"/>
      </c:catAx>
      <c:valAx>
        <c:axId val="45835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0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F12-E586-4F99-8837-CA1FAF27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363-E8D6-4D30-96C2-648E9A2B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D5B-17CA-4144-91D7-25B8F81D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2CD-1079-42BA-8921-4D251194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5C5-9A6B-4C24-B9D1-538A1E83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8E8-2CFA-45C0-900F-D3239FC1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FB5-F12A-44F8-AB62-B9908354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CA2-8575-4FF3-8156-DEB9653A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376-7058-48B6-AF8B-53E1F674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D7C-BFC9-4685-A1E2-4DDFE33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A53-4617-46E4-A143-D0724340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B3D-BAAA-4017-80D9-B254243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34E2D-B6AA-4AD2-98EA-6B6788F0EF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