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27370"/>
        <c:axId val="24054390"/>
      </c:barChart>
      <c:catAx>
        <c:axId val="79027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54390"/>
        <c:crosses val="autoZero"/>
        <c:auto val="1"/>
        <c:lblAlgn val="ctr"/>
        <c:lblOffset val="100"/>
        <c:noMultiLvlLbl val="0"/>
      </c:catAx>
      <c:valAx>
        <c:axId val="24054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27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F0B-FF76-4C9B-8FB8-74CB60CA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E0C-D645-4DDB-A6A8-310BC071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444-D994-42B2-B0CF-57C9083C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F0D-2900-4896-8601-8355C628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4F4-E811-426B-984A-A9E7AC15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5E5-9433-4D03-975B-9B19D450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B76-BD2D-4A61-9D2F-258CB0CB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A9A-53FC-4ACD-BFF4-A31C36C0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B6E-6475-48A1-A345-0D3B908D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3A5-CE3B-49C6-9C03-533F1589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657-80E1-428C-AB3C-D2D0A9D2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BBD-5738-4D84-90F3-8482CECD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0AAFD-D998-4C18-A931-4182AC0399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