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7272822"/>
        <c:axId val="58818307"/>
      </c:barChart>
      <c:catAx>
        <c:axId val="972728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18307"/>
        <c:crosses val="autoZero"/>
        <c:auto val="1"/>
        <c:lblAlgn val="ctr"/>
        <c:lblOffset val="100"/>
        <c:noMultiLvlLbl val="0"/>
      </c:catAx>
      <c:valAx>
        <c:axId val="5881830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2728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84D-7E63-4983-ABE0-F80E4AD39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765B-131B-4FB1-9C1C-539F2EFF8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BB9-D6A3-45B1-9D7E-8757FB2FB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E7F-EAAC-4582-B101-3A006EB2D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CECD4-8B7C-41D9-881E-BC6072D5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B7D2-896F-4B05-A930-ED311C62D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D4D5-1F95-46EE-8AF3-3FCF4F564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3613-D71D-4E2B-A2FB-7627BB00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E1A5-4160-4D7F-A6C2-3E571D16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7F36-1C2A-4ACD-B9C7-0DACC5E18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B8F7-DFA5-4CFB-99CE-3955C46D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AF2F-9679-4CE4-8BC5-68DBE5D8F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745BA5-8F96-4113-A7B4-675EE3D0D4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